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19A-E103-443D-AE98-9F7CE319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B5B-6C52-4BEB-B7EC-F5AD7389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57B-96B2-443B-8C29-07C916D2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A53-F6FD-4094-9677-B48C9C5A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B26-B0A9-49A1-914B-6F8F6463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850-42F1-41AD-ABEB-487270EE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B2A-950F-474C-892C-2410AC21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C04-4664-4EEC-BBA7-33C86647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F47-B129-46CC-950F-57B59D85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F68-85F8-449B-A6E4-4CCE1D75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3D5-4349-4DE2-AC82-2F7E812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2FE-F9F4-4EBC-9D25-6A7903C7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D2B4-0BAC-4AAE-B1F4-C7380326F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C:\Users\dwilliams2\AppData\Local\Microsoft\Windows\Temporary Internet Files\Content.IE5\ES5BI6NL\MC900354265[1].wmf"/>
          <p:cNvPicPr/>
          <p:nvPr/>
        </p:nvPicPr>
        <p:blipFill>
          <a:blip r:embed="rId1"/>
          <a:stretch/>
        </p:blipFill>
        <p:spPr>
          <a:xfrm>
            <a:off x="79200" y="152280"/>
            <a:ext cx="6778800" cy="8842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85640" y="2514240"/>
            <a:ext cx="3048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6" descr="C:\Users\dwilliams2\AppData\Local\Microsoft\Windows\Temporary Internet Files\Content.IE5\ES5BI6NL\MC900434461[1].wmf"/>
          <p:cNvPicPr/>
          <p:nvPr/>
        </p:nvPicPr>
        <p:blipFill>
          <a:blip r:embed="rId2"/>
          <a:stretch/>
        </p:blipFill>
        <p:spPr>
          <a:xfrm rot="20231400">
            <a:off x="1323720" y="1692360"/>
            <a:ext cx="182232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1:17:38Z</dcterms:created>
  <dc:creator>Deborah Williams</dc:creator>
  <dc:description/>
  <dc:language>en-US</dc:language>
  <cp:lastModifiedBy>Deborah Williams</cp:lastModifiedBy>
  <dcterms:modified xsi:type="dcterms:W3CDTF">2012-10-10T17:45:29Z</dcterms:modified>
  <cp:revision>4</cp:revision>
  <dc:subject/>
  <dc:title>PowerPoint Presentation</dc:title>
</cp:coreProperties>
</file>